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FC1-E4CA-47A2-B580-B63E7A3F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4F2-1A47-4574-A390-B5E3DF15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8FC-0AEF-41A9-9896-76AF5250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3AE-9E6E-432B-877F-7BD989F8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FA58-23EE-44C3-A3BC-3E093CEC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EAC8-1815-4E51-8F72-2BF39846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0AA4-75F7-439B-B957-EC88728E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017B-2A33-4A0D-9F3D-5B58E3EB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F4E3-FBD5-4ECB-90DF-5CC303DB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10E5-FB14-42F4-838C-5C1FB5B9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C2E4-293E-4F60-B652-69191EFC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705-B32A-4015-9D80-B4AA388D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E3D9-3BD8-4BE0-BD44-C5E53737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1007-89C1-49CA-8B54-11DD2AEF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F417-A232-43E2-8E0B-1066BA7E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23B4-A228-48FD-B111-689D51C2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3D03-C227-4CCF-8CE2-E5B8B979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C8A-F4EC-4ACE-96DF-7D901458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AC7-D99B-4271-96DF-A348C5B7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81B-4701-4107-ABCE-25B05213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CB8-D5AF-4389-9F94-AAD31CAD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777-66A9-441B-8245-4AF71E74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364-9ECA-4929-BB24-8C5D01E1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6D5-2948-4DCB-9C2B-C805F3DB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3041-2B94-4E46-BF34-F14BDDBE8289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2FF8-D0CE-4309-A217-4C087ECFB95B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Readying Instructional Environmen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Setting Up the Interactive Whiteboard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What did you do?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Connecting a "SMARTboard" (a brand of interactive white boards) to a laptop.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Connect: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The  cord that extends from the board should be inserted into a USB port in your laptop.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Connect the projector with a VGA/RGB cable to the laptop (usually has a blue port)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Activate: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1- Start up your laptop.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This should activate a green light on the board indicating that the “Smartboard” is configured and a connection was received.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Project: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Power on your projector. Image should appear on the board.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If the image doesn't immediately project, you may need to put your system in presentation mode which can vary from device to devic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ssues that were encountered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Red ligh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orrupted screen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Projector malfunction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ccidental disconnection of boar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Other</a:t>
            </a:r>
            <a:br>
              <a:rPr sz="2800"/>
            </a:b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set up an interactive whiteboard to my laptop?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the materials that are needed to accomplish full functioning of the interactive whiteboard's capabilities ?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ave you ever seen a teacher struggle with an interactive whiteboar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s an iSquad member, you should be able to set it up and maximize functioning capacity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re are many neat functions that you can do with the board and all its tools, use them!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n this session, you will learn how to ensure successful setup and use of interactive whiteboard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will learn how to connect, activate and project an interactive whiteboard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atch as I take you through the steps of a complete setup of a “SMARTboard”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dicate in which order you would use the following equipm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Power Cable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GA Cab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USB Cab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RCA to audio cab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effects would it have if a particular piece was left ou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Squad members, today we will set up the interactive whiteboard to a laptop, adjust  and calibrate the image, connect the speakers to the laptop, then shut down and disconnect the syste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1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Power up laptop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2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Find the cord that extends from the interactive 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white 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board and connect it to your laptop’s USB port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3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Connect your projector to your laptop with a VGA cable.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4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Connect RCA audio cable to your laptop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5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Power on the projector. (If image does not appear 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change LCD mode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6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Adjust Image (situate cart, lift projector tray up or down, 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make keystone adjustments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7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Calibrate (SMARTboard tools </a:t>
            </a:r>
            <a:r>
              <a:rPr b="0" lang="en-US" sz="2000" spc="-1" strike="noStrike">
                <a:solidFill>
                  <a:srgbClr val="21216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control panel</a:t>
            </a:r>
            <a:r>
              <a:rPr b="0" lang="en-US" sz="2000" spc="-1" strike="noStrike">
                <a:solidFill>
                  <a:srgbClr val="21216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Orient or 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holding down 2 buttons on board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Step8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: Disconnect all cables and turn power off on the projector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3-13T00:09:20Z</dcterms:modified>
  <cp:revision>6</cp:revision>
  <dc:subject/>
  <dc:title>Workshop Title</dc:title>
</cp:coreProperties>
</file>